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E18-F113-41DF-8080-94DB34CEB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2740-1C3B-4CBF-BA64-A1890A6C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31F-4871-4D95-B3A9-96BD22E7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596-77C7-48CB-A7B8-F8CEE7B0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7B7-D857-4E13-87CB-CC805A3D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B99D-8A43-4C04-B08A-09AD0C19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0AC-1258-46A8-AD3A-3A030373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3DCB-B593-4B2E-8710-AC7F4B8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902C-289A-44B3-AE75-5069E889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83E-3D1C-4928-A4F2-2C216D05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031-5865-4BAE-9BB9-CD64AAE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655-E24C-477F-A0F1-AD5FD64A9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71C1-04BE-4B4B-8BB6-3F73784D14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080" y="66600"/>
            <a:ext cx="1077840" cy="1201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29160" y="1305000"/>
            <a:ext cx="1050840" cy="1144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560" y="1314360"/>
            <a:ext cx="107604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8160" y="2562120"/>
            <a:ext cx="10126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652920" y="171360"/>
            <a:ext cx="1017360" cy="1116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681360" y="2476440"/>
            <a:ext cx="1038240" cy="1104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03480" y="298440"/>
            <a:ext cx="111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ro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94120" y="26028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Comic Sans MS"/>
              </a:rPr>
              <a:t>amari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7520" y="1450800"/>
            <a:ext cx="136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3760" y="1422360"/>
            <a:ext cx="10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az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4400" y="2593800"/>
            <a:ext cx="1384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300"/>
                </a:solidFill>
                <a:latin typeface="Comic Sans MS"/>
              </a:rPr>
              <a:t>ve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8160" y="2546280"/>
            <a:ext cx="165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c00f4"/>
                </a:solidFill>
                <a:latin typeface="Comic Sans MS"/>
              </a:rPr>
              <a:t>mor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80" y="66600"/>
            <a:ext cx="1077840" cy="1201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29160" y="1305000"/>
            <a:ext cx="1050840" cy="1144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560" y="1314360"/>
            <a:ext cx="1076040" cy="1114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8160" y="2562120"/>
            <a:ext cx="1012680" cy="1076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3652920" y="171360"/>
            <a:ext cx="1017360" cy="11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681360" y="2476440"/>
            <a:ext cx="1038240" cy="110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203480" y="298440"/>
            <a:ext cx="111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ro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94120" y="260280"/>
            <a:ext cx="170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maril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7520" y="1450800"/>
            <a:ext cx="136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neg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3760" y="1422360"/>
            <a:ext cx="109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az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4400" y="2593800"/>
            <a:ext cx="13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er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8160" y="2546280"/>
            <a:ext cx="165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"/>
              </a:rPr>
              <a:t>morad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7:12:09Z</dcterms:created>
  <dc:creator>Katy Oliver</dc:creator>
  <dc:description/>
  <dc:language>en-US</dc:language>
  <cp:lastModifiedBy>Katy Oliver</cp:lastModifiedBy>
  <dcterms:modified xsi:type="dcterms:W3CDTF">2012-03-02T07:12:20Z</dcterms:modified>
  <cp:revision>1</cp:revision>
  <dc:subject/>
  <dc:title>Slide 1</dc:title>
</cp:coreProperties>
</file>